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gif" ContentType="image/gi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13.wmf" ContentType="image/x-wmf"/>
  <Override PartName="/ppt/media/image10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7D16-447D-47B9-B172-1472F59F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33F-4120-4D0E-ABBA-30C8FB96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D55-8B17-453B-A26A-8578D985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2A42-877B-4AE6-B92C-C526F784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0121D-0B94-47D3-A4A6-8DE33575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CA24B-BC09-47CD-BADA-2C74A042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82D43-E91A-4284-B325-687B5D4A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9B09D-C6CA-4B33-AE86-C261173A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75ED8-A9F8-436B-A88D-4BDBA43B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AA61F-DD26-4105-8F5F-046D13DC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38F6F-3010-4A25-9F57-6D19D253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230-C15E-488C-BAC6-6F823191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A2AA5-BC80-4CA4-B451-D83133DE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A6A0B-C59E-4FC3-98AE-D48B45BB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44073-BB5B-468A-B4CC-A666ACFC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6EC1C-54D2-4455-B375-8B3045FB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3032F-4E85-4D13-B541-9AB5BC94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D56-38F3-412E-AE08-A6E98AEE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066-CEE0-4A03-B1FF-04FB9360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FC5-220D-420C-99DB-6BDB235A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C18-6930-418B-B89D-F9FA39FD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418-691A-47F9-A39C-FBF16892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DC8-9DBE-4E3C-9B1B-0997B956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FBC-8621-4047-8DAB-87383467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7192-6A87-4128-A8A7-1426384EE4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9034-A599-44D0-B2F6-2A5E05C4DB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A Walk in the Desert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Vocabulary and Amazing Word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nd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hape formed on land like hills, mountains, lakes, and dese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MCj04343450000[1]"/>
          <p:cNvPicPr/>
          <p:nvPr/>
        </p:nvPicPr>
        <p:blipFill>
          <a:blip r:embed="rId1"/>
          <a:stretch/>
        </p:blipFill>
        <p:spPr>
          <a:xfrm>
            <a:off x="6324480" y="2895480"/>
            <a:ext cx="1841760" cy="120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MPj04340860000[1]"/>
          <p:cNvPicPr/>
          <p:nvPr/>
        </p:nvPicPr>
        <p:blipFill>
          <a:blip r:embed="rId2"/>
          <a:stretch/>
        </p:blipFill>
        <p:spPr>
          <a:xfrm>
            <a:off x="533520" y="2743200"/>
            <a:ext cx="2514600" cy="2511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Blue hills"/>
          <p:cNvPicPr/>
          <p:nvPr/>
        </p:nvPicPr>
        <p:blipFill>
          <a:blip r:embed="rId3"/>
          <a:stretch/>
        </p:blipFill>
        <p:spPr>
          <a:xfrm>
            <a:off x="3505320" y="32004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ecipit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kind of rain, snow, hail, or other form of water that comes down from the clouds to the g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MCj02788500000[1]"/>
          <p:cNvPicPr/>
          <p:nvPr/>
        </p:nvPicPr>
        <p:blipFill>
          <a:blip r:embed="rId1"/>
          <a:stretch/>
        </p:blipFill>
        <p:spPr>
          <a:xfrm>
            <a:off x="4114800" y="3098880"/>
            <a:ext cx="3124080" cy="225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un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ll of sand in a dese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MPj04243850000[1]"/>
          <p:cNvPicPr/>
          <p:nvPr/>
        </p:nvPicPr>
        <p:blipFill>
          <a:blip r:embed="rId1"/>
          <a:stretch/>
        </p:blipFill>
        <p:spPr>
          <a:xfrm>
            <a:off x="3352680" y="2666880"/>
            <a:ext cx="358164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d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elf or an overl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MCBD09077_0000[1]"/>
          <p:cNvPicPr/>
          <p:nvPr/>
        </p:nvPicPr>
        <p:blipFill>
          <a:blip r:embed="rId1"/>
          <a:stretch/>
        </p:blipFill>
        <p:spPr>
          <a:xfrm>
            <a:off x="3276720" y="2514600"/>
            <a:ext cx="437832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v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afe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ove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someone finds out for the first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MMj02867660000[1]"/>
          <p:cNvPicPr/>
          <p:nvPr/>
        </p:nvPicPr>
        <p:blipFill>
          <a:blip r:embed="rId1"/>
          <a:stretch/>
        </p:blipFill>
        <p:spPr>
          <a:xfrm>
            <a:off x="3429000" y="2666880"/>
            <a:ext cx="2305080" cy="2203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orbidd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ms dangerous and sc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MCj03315770000[1]"/>
          <p:cNvPicPr/>
          <p:nvPr/>
        </p:nvPicPr>
        <p:blipFill>
          <a:blip r:embed="rId1"/>
          <a:stretch/>
        </p:blipFill>
        <p:spPr>
          <a:xfrm>
            <a:off x="3691080" y="2530440"/>
            <a:ext cx="2100240" cy="295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r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c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y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68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68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ser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ce without water or trees but with a lot of s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MPj04243860000[1]"/>
          <p:cNvPicPr/>
          <p:nvPr/>
        </p:nvPicPr>
        <p:blipFill>
          <a:blip r:embed="rId1"/>
          <a:stretch/>
        </p:blipFill>
        <p:spPr>
          <a:xfrm>
            <a:off x="4724280" y="2590920"/>
            <a:ext cx="2795760" cy="29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rs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rough, unpleasant, and unfriend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MCj02379220000[1]"/>
          <p:cNvPicPr/>
          <p:nvPr/>
        </p:nvPicPr>
        <p:blipFill>
          <a:blip r:embed="rId1"/>
          <a:stretch/>
        </p:blipFill>
        <p:spPr>
          <a:xfrm>
            <a:off x="2666880" y="2362320"/>
            <a:ext cx="35546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ind of weather a place 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MCj03351920000[1]"/>
          <p:cNvPicPr/>
          <p:nvPr/>
        </p:nvPicPr>
        <p:blipFill>
          <a:blip r:embed="rId1"/>
          <a:stretch/>
        </p:blipFill>
        <p:spPr>
          <a:xfrm>
            <a:off x="2514600" y="2362320"/>
            <a:ext cx="425124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ct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nt with sharp parts but no leaves; most live in very hot, dry areas of North and South Ame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MCj04136040000[1]"/>
          <p:cNvPicPr/>
          <p:nvPr/>
        </p:nvPicPr>
        <p:blipFill>
          <a:blip r:embed="rId1"/>
          <a:stretch/>
        </p:blipFill>
        <p:spPr>
          <a:xfrm>
            <a:off x="4800600" y="3200400"/>
            <a:ext cx="2819520" cy="2776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MPj04224930000[1]"/>
          <p:cNvPicPr/>
          <p:nvPr/>
        </p:nvPicPr>
        <p:blipFill>
          <a:blip r:embed="rId2"/>
          <a:stretch/>
        </p:blipFill>
        <p:spPr>
          <a:xfrm>
            <a:off x="1600200" y="3200400"/>
            <a:ext cx="1779480" cy="2666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yo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ll animal that looks something like a wo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MCj03323060000[1]"/>
          <p:cNvPicPr/>
          <p:nvPr/>
        </p:nvPicPr>
        <p:blipFill>
          <a:blip r:embed="rId1"/>
          <a:stretch/>
        </p:blipFill>
        <p:spPr>
          <a:xfrm>
            <a:off x="2819520" y="2438280"/>
            <a:ext cx="2886120" cy="3124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mazing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r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and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ecipi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un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ed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v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iscove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bidd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i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hat is very, very d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MPj04022580000[1]"/>
          <p:cNvPicPr/>
          <p:nvPr/>
        </p:nvPicPr>
        <p:blipFill>
          <a:blip r:embed="rId1"/>
          <a:stretch/>
        </p:blipFill>
        <p:spPr>
          <a:xfrm>
            <a:off x="2666880" y="22860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22:56:54Z</dcterms:created>
  <dc:creator> </dc:creator>
  <dc:description/>
  <dc:language>en-US</dc:language>
  <cp:lastModifiedBy>Laura McDow</cp:lastModifiedBy>
  <dcterms:modified xsi:type="dcterms:W3CDTF">2010-09-02T15:14:02Z</dcterms:modified>
  <cp:revision>3</cp:revision>
  <dc:subject/>
  <dc:title>A Walk in the Desert Vocabulary and Amazing Words</dc:title>
</cp:coreProperties>
</file>